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772-C3AC-4373-B0C9-B7676B72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390-4CAC-4241-BC0B-79BDEFE7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FC8-04AF-458E-A4D1-8513DA0E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30A-7B9D-4517-BCAD-B8FEACDB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422-6AD3-4ED3-8F27-5DDE3237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8A0-450E-4B97-B77A-565D726E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73E-C772-469D-9DAF-2429EA0C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288-2CF8-4998-A0D9-361C8C56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270-7EE5-4E12-B2C5-47E3993A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2FC-FF07-45B5-A9D6-17D9122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A13-4DEE-46A7-863D-AEB812CB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B45-6F38-48B2-B4BB-0ACEB45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8188-2E40-4AA4-8015-8A49C9E5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1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643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cle J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the day I make Uncle Jim smil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city people have given me a new nickname; they call me the garde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anks for the package of plants from home! Emma laughed when the dirt came out of the packag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814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one of those days that I remember you saying. “April showers bring May flowers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found a new place in the city; it’s on the top of Uncle Jim’s building. The view is so beautifu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5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4842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417240" cy="5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4050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133720" y="31240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33720" y="44956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2133720" y="51814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33720" y="5867280"/>
            <a:ext cx="457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81280"/>
            <a:ext cx="160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ong a dirt 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ardening, Kneading Bread, Helping at the Bak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ardening, Playing with Otis, Making Uncle Jim s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Glenn Miller, Larry Clinton, Kat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“Seventh Heaven“, “The King of Kings”, “Pow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peye, The Three Stooges, The Looney T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“The Garden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en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6172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80 Way in the Country L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(865) GAR-D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5391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60958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752480"/>
            <a:ext cx="7467480" cy="28958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ydia Gr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724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ydia Grac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6324480"/>
            <a:ext cx="6858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9907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77120" y="182880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1828800"/>
            <a:ext cx="198144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04812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00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990720" y="320040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Owner</cp:lastModifiedBy>
  <dcterms:modified xsi:type="dcterms:W3CDTF">2012-04-24T20:41:43Z</dcterms:modified>
  <cp:revision>38</cp:revision>
  <dc:subject/>
  <dc:title>Profile</dc:title>
</cp:coreProperties>
</file>